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949100"/>
        <c:axId val="63433004"/>
      </c:barChart>
      <c:catAx>
        <c:axId val="929491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433004"/>
        <c:crosses val="autoZero"/>
        <c:auto val="1"/>
        <c:lblAlgn val="ctr"/>
        <c:lblOffset val="100"/>
        <c:noMultiLvlLbl val="0"/>
      </c:catAx>
      <c:valAx>
        <c:axId val="634330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9491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2133-F90D-437B-9522-217DD4CD7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C932-5A96-4A85-B3DB-9C282274B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71EC-C42E-4B3B-A7C9-AC8FA55D7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7194-B1B5-479F-A472-E83FFDDE0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EC0B-8AD0-4E49-9F6D-BD34734B2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3381-CA2F-4308-BBAF-38F6481C5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81A5-7B40-40DF-9964-45A755BA0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9A8D-8447-46FA-8780-6E6BB7F66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F247-B9F9-4644-8D1F-65B623044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66DD-D0B3-476E-98BE-088E7FEC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BA52-5069-4213-91B0-B34C8D5AC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A2B8-344D-48B4-B9EC-DE6D2E39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7C60E9-AB31-4B1A-B2D8-FDDC622A021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