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249798"/>
        <c:axId val="18989413"/>
      </c:barChart>
      <c:catAx>
        <c:axId val="272497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89413"/>
        <c:crosses val="autoZero"/>
        <c:auto val="1"/>
        <c:lblAlgn val="ctr"/>
        <c:lblOffset val="100"/>
        <c:noMultiLvlLbl val="0"/>
      </c:catAx>
      <c:valAx>
        <c:axId val="189894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497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220A-7ADE-43E2-A3B1-AAE01292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9210-5F2E-44C0-818D-D09F534A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48F7-3F79-4DFE-A363-C63E3129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71CC-96E6-466E-B72D-DD2F6C20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C6CF-3C2F-46EB-9D42-F63607A4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6061-120F-44AC-A87C-AEC95D4A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B494-7979-49A6-9E39-1D6F0413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102A-69C4-450D-930F-35C9D0DD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0A0A-89D8-4F11-AC7B-9D34D14D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D240-124A-4B0B-AF62-7B0EA711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29BC-1A73-40CA-98D4-719460E8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8CD7-358B-48A9-8766-30CBFB84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74126-5EDC-4B5C-A970-CFAE75A296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