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88870"/>
        <c:axId val="45979710"/>
      </c:barChart>
      <c:catAx>
        <c:axId val="51088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79710"/>
        <c:crosses val="autoZero"/>
        <c:auto val="1"/>
        <c:lblAlgn val="ctr"/>
        <c:lblOffset val="100"/>
        <c:noMultiLvlLbl val="0"/>
      </c:catAx>
      <c:valAx>
        <c:axId val="45979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88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00E-A180-4F39-9A00-089347C6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FB0-A9FB-4840-8C38-2E7582B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BE6-E0F1-4477-B0F9-62EF47C7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808-4893-4E71-93CD-22C7DF7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A53-926A-4BA8-A5FF-7224574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800-D9E5-4AD5-9911-7CF216F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D06-9F51-4F00-B722-ED3C54BB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BA6-A8F1-44D2-8957-2826AF3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0F6-0E7D-4DE4-B2FC-4BA22E3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678-9CED-495E-B8E5-1AEFE39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AED-422E-491C-B102-81ECA77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1ED-62D8-4527-94EF-04AB36A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1B28E-4637-4116-A1CF-8F84F8A4F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