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627727"/>
        <c:axId val="44369889"/>
      </c:barChart>
      <c:catAx>
        <c:axId val="79627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369889"/>
        <c:crosses val="autoZero"/>
        <c:auto val="1"/>
        <c:lblAlgn val="ctr"/>
        <c:lblOffset val="100"/>
        <c:noMultiLvlLbl val="0"/>
      </c:catAx>
      <c:valAx>
        <c:axId val="443698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627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8D9E-E5F8-41C8-8A4D-23014983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1E3-3DB7-4CF8-9E30-EB84DBF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B54-FDD8-4694-BBF7-77CC04DEB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0D1-CE2E-4C8B-B116-63965309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4F3-C741-4E1C-9A72-BB5212EF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B66-92F5-41B8-BA51-3D2288B7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E39A-4539-4152-9CC0-F38B23D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AE67-775D-471A-9F74-389A7E9F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F6EF-AFA6-4C6A-BA0C-25A327D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E4B-0915-42E9-B12D-AF58FA0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F30-82A3-4B9F-B13A-39146809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7D6-72C7-40F3-AC5C-151CE75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B5F1-47E9-48B1-8244-28CDA77347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