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08587"/>
        <c:axId val="58915031"/>
      </c:barChart>
      <c:catAx>
        <c:axId val="22108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15031"/>
        <c:crosses val="autoZero"/>
        <c:auto val="1"/>
        <c:lblAlgn val="ctr"/>
        <c:lblOffset val="100"/>
        <c:noMultiLvlLbl val="0"/>
      </c:catAx>
      <c:valAx>
        <c:axId val="58915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08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17C-B438-40EF-A281-AC3A3F56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D1F-A2B8-49B1-85AA-8766C192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32C-A972-4FF6-9A59-97635F47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359-8817-4C67-A95F-102C00F1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E42-692C-40CE-ADC6-D0BD2FCE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D94-F3CE-446A-92EC-A26DB97E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36B-1CF0-4876-B947-3F266602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81B-BF72-4758-A5EE-BA92BB04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151-764F-4F97-A094-879D5A9A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769-491C-4D90-A7A0-0D8D243A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E0C-9AC4-45C8-B2E2-8EF551D7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472-F20C-48DD-BE6D-8299D8A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492EF-8742-4F8C-B144-54CECC089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